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1A-8832-4738-9D2B-A4FC6F2C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5DA-CFD4-4C0C-B5C5-A793C7F4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BF9-2493-451A-A0E6-81EE4BC1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842-93BA-4FEB-9CFF-494A2A2E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B5FD-A52D-4BEA-9807-9051B4E2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3A3D-1B47-47A8-98CE-ED05D07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EE0-4F11-4E86-AE55-7D5E990C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D35-61FB-44EF-BC23-D17E793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1CA3-9F7E-4740-B690-AD565B3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E09B-D06C-405A-9FC2-849552F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D662-E1C5-4B48-83B1-DDE2EC7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F9C-4270-4E44-8D9A-F8C96483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1A1-CB4C-4BDE-895C-5DCF9AD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D97F-8801-4B8B-9835-7DD78C8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ED7-31EC-4887-A8BC-0DB1433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4C0-DC73-420D-A404-02F62C0C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36FA-4E0A-457A-AB4C-AEF63224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290-1DA2-46E4-AFCC-76BDEAFB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FAC-ABBC-407B-A78A-A719B23D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768-DAF2-4980-8F95-BEE077B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A9E-5185-465C-BE77-5574391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287-646F-49BB-BB14-8E8631D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ADE-5837-4C96-8A99-11D6727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8E2-39E4-451D-AFF8-A614A66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804-BFCB-47AF-8FB1-BF506DAEDD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FD34-8D5C-4DC1-AE29-33E32667C51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авописание –Н- и –НН- в суффиксах имё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743200" y="46479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Урок русского языка в 6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оставь себе оценк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5» - за 16 правильных отве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4» - за 13 -15 правильных отве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3» - за  9 – 12 правильных отве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2» - за  6 – 8 правильных отве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aee"/>
                </a:solidFill>
                <a:latin typeface="Arial"/>
              </a:rPr>
              <a:t>Образуйте прилагательные о т существительных и выделите словообразовательные суффикс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828440"/>
            <a:ext cx="3622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н      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анция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лома 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тка       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сок     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фть         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38120" y="175212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н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анци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он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лом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ен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т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ы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сч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ы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фт</a:t>
            </a:r>
            <a:r>
              <a:rPr b="0" lang="ru-RU" sz="2800" spc="-1" strike="noStrike">
                <a:solidFill>
                  <a:srgbClr val="ff31be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4648320" y="1752480"/>
            <a:ext cx="152280" cy="152640"/>
          </a:xfrm>
          <a:prstGeom prst="line">
            <a:avLst/>
          </a:prstGeom>
          <a:ln w="936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4800600" y="1828800"/>
            <a:ext cx="0" cy="0"/>
          </a:xfrm>
          <a:prstGeom prst="line">
            <a:avLst/>
          </a:prstGeom>
          <a:ln w="3816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57200" y="4800600"/>
            <a:ext cx="72388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1035"/>
                </a:solidFill>
                <a:latin typeface="Arial"/>
              </a:rPr>
              <a:t>Когда пишется одна буква н в суффиксах прилагательных, а когда - две  буквы н 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4724280" y="1752480"/>
            <a:ext cx="152640" cy="15264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 flipV="1">
            <a:off x="4648320" y="1828800"/>
            <a:ext cx="75960" cy="7632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4800600" y="1828800"/>
            <a:ext cx="0" cy="0"/>
          </a:xfrm>
          <a:prstGeom prst="line">
            <a:avLst/>
          </a:prstGeom>
          <a:ln w="936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 flipH="1">
            <a:off x="4495680" y="2133720"/>
            <a:ext cx="45720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5486400" y="2590920"/>
            <a:ext cx="30492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5334120" y="3124080"/>
            <a:ext cx="38088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>
            <a:off x="4648320" y="3581280"/>
            <a:ext cx="22860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32"/>
          <p:cNvSpPr/>
          <p:nvPr/>
        </p:nvSpPr>
        <p:spPr>
          <a:xfrm>
            <a:off x="5029200" y="4038480"/>
            <a:ext cx="22860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5105520" y="4495680"/>
            <a:ext cx="228600" cy="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V="1">
            <a:off x="5334120" y="2209680"/>
            <a:ext cx="228600" cy="15264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5562720" y="2209680"/>
            <a:ext cx="228600" cy="15264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39"/>
          <p:cNvSpPr/>
          <p:nvPr/>
        </p:nvSpPr>
        <p:spPr>
          <a:xfrm flipV="1">
            <a:off x="5181480" y="2666880"/>
            <a:ext cx="381240" cy="15264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Line 40"/>
          <p:cNvSpPr/>
          <p:nvPr/>
        </p:nvSpPr>
        <p:spPr>
          <a:xfrm>
            <a:off x="5486400" y="2666880"/>
            <a:ext cx="228600" cy="15264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V="1">
            <a:off x="4495680" y="3124080"/>
            <a:ext cx="152640" cy="15264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4648320" y="3124080"/>
            <a:ext cx="152280" cy="15264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 flipV="1">
            <a:off x="4876920" y="3657600"/>
            <a:ext cx="152280" cy="7632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5029200" y="3657600"/>
            <a:ext cx="228600" cy="7632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 flipV="1">
            <a:off x="4952880" y="4114440"/>
            <a:ext cx="228600" cy="15228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Line 46"/>
          <p:cNvSpPr/>
          <p:nvPr/>
        </p:nvSpPr>
        <p:spPr>
          <a:xfrm>
            <a:off x="5181480" y="4114800"/>
            <a:ext cx="152640" cy="152280"/>
          </a:xfrm>
          <a:prstGeom prst="line">
            <a:avLst/>
          </a:prstGeom>
          <a:ln w="2844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5715000" y="2362320"/>
            <a:ext cx="228600" cy="152280"/>
          </a:xfrm>
          <a:prstGeom prst="line">
            <a:avLst/>
          </a:prstGeom>
          <a:ln w="19080">
            <a:solidFill>
              <a:srgbClr val="f42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4665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228600"/>
            <a:ext cx="6769080" cy="474840"/>
          </a:xfrm>
          <a:prstGeom prst="rect">
            <a:avLst/>
          </a:prstGeom>
          <a:solidFill>
            <a:srgbClr val="f7d47d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500" spc="-1" strike="noStrike">
                <a:solidFill>
                  <a:srgbClr val="2f1311"/>
                </a:solidFill>
                <a:latin typeface="Arial"/>
              </a:rPr>
              <a:t>Н и НН в суффиксах прилагательных</a:t>
            </a:r>
            <a:endParaRPr b="0" lang="en-US" sz="2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836640"/>
            <a:ext cx="7272360" cy="42912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Определи, от какой части речи образовано слов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676520" y="1600200"/>
            <a:ext cx="4824360" cy="459720"/>
          </a:xfrm>
          <a:prstGeom prst="rect">
            <a:avLst/>
          </a:prstGeom>
          <a:solidFill>
            <a:srgbClr val="f6e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т существительного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5280" y="2421000"/>
            <a:ext cx="720720" cy="3682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68360" y="3213000"/>
            <a:ext cx="7056360" cy="42912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Определи, какой суффикс прибавлен к основе?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826920" y="4149720"/>
            <a:ext cx="1800360" cy="3682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7191c"/>
                </a:solidFill>
                <a:latin typeface="Arial"/>
              </a:rPr>
              <a:t>-онн, -енн, -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4932360" y="4149720"/>
            <a:ext cx="2016000" cy="3682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69a"/>
                </a:solidFill>
                <a:latin typeface="Arial"/>
              </a:rPr>
              <a:t>-ан, -ян, -и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2700360" y="3789360"/>
            <a:ext cx="792000" cy="287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4643280" y="3789360"/>
            <a:ext cx="43344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99564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95640" y="213372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140360" y="1413000"/>
            <a:ext cx="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1547640" y="4869000"/>
            <a:ext cx="576360" cy="3988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5364000" y="4869000"/>
            <a:ext cx="792360" cy="3682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Д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796000" y="458136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826920" y="5661000"/>
            <a:ext cx="1584360" cy="368280"/>
          </a:xfrm>
          <a:prstGeom prst="rect">
            <a:avLst/>
          </a:prstGeom>
          <a:solidFill>
            <a:srgbClr val="73d6e3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7191c"/>
                </a:solidFill>
                <a:latin typeface="Arial"/>
              </a:rPr>
              <a:t>Пиши  - Н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4859280" y="5516640"/>
            <a:ext cx="1656000" cy="368280"/>
          </a:xfrm>
          <a:prstGeom prst="rect">
            <a:avLst/>
          </a:prstGeom>
          <a:solidFill>
            <a:srgbClr val="73d6e3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7191c"/>
                </a:solidFill>
                <a:latin typeface="Arial"/>
              </a:rPr>
              <a:t>Пиши - 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Line 21"/>
          <p:cNvSpPr/>
          <p:nvPr/>
        </p:nvSpPr>
        <p:spPr>
          <a:xfrm>
            <a:off x="1763640" y="537372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5724360" y="5300640"/>
            <a:ext cx="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4360" y="6165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395280" y="6113520"/>
            <a:ext cx="3097080" cy="642600"/>
          </a:xfrm>
          <a:prstGeom prst="rect">
            <a:avLst/>
          </a:prstGeom>
          <a:solidFill>
            <a:srgbClr val="f95de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сключения: ветре</a:t>
            </a: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ый, но (безветре</a:t>
            </a: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ый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4140360" y="6093000"/>
            <a:ext cx="3384360" cy="642600"/>
          </a:xfrm>
          <a:prstGeom prst="rect">
            <a:avLst/>
          </a:prstGeom>
          <a:solidFill>
            <a:srgbClr val="f95de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Исключения: стекля</a:t>
            </a: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ый, оловя</a:t>
            </a: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ый, деревя</a:t>
            </a: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39640" y="115920"/>
            <a:ext cx="6840720" cy="764280"/>
          </a:xfrm>
          <a:prstGeom prst="rect">
            <a:avLst/>
          </a:prstGeom>
          <a:solidFill>
            <a:srgbClr val="f95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7191c"/>
                </a:solidFill>
                <a:latin typeface="Arial"/>
              </a:rPr>
              <a:t>Краткая форма</a:t>
            </a: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 прилагательных </a:t>
            </a:r>
            <a:r>
              <a:rPr b="1" lang="ru-RU" sz="2200" spc="-1" strike="noStrike">
                <a:solidFill>
                  <a:srgbClr val="a7191c"/>
                </a:solidFill>
                <a:latin typeface="Arial"/>
              </a:rPr>
              <a:t>имеет столько</a:t>
            </a: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 же </a:t>
            </a:r>
            <a:r>
              <a:rPr b="1" lang="ru-RU" sz="2200" spc="-1" strike="noStrike">
                <a:solidFill>
                  <a:srgbClr val="a7191c"/>
                </a:solidFill>
                <a:latin typeface="Arial"/>
              </a:rPr>
              <a:t>–Н</a:t>
            </a:r>
            <a:r>
              <a:rPr b="1" lang="ru-RU" sz="2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11b05"/>
                </a:solidFill>
                <a:latin typeface="Arial"/>
              </a:rPr>
              <a:t>сколько и полная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84360" y="981000"/>
            <a:ext cx="64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Це</a:t>
            </a: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ая вещь – вещь це</a:t>
            </a: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нн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етре</a:t>
            </a: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ая погода – погода ветре</a:t>
            </a:r>
            <a:r>
              <a:rPr b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39640" y="270828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24000" y="2060640"/>
          <a:ext cx="7129440" cy="4498920"/>
        </p:xfrm>
        <a:graphic>
          <a:graphicData uri="http://schemas.openxmlformats.org/drawingml/2006/table">
            <a:tbl>
              <a:tblPr/>
              <a:tblGrid>
                <a:gridCol w="3495600"/>
                <a:gridCol w="363384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11b05"/>
                          </a:solidFill>
                          <a:latin typeface="Arial"/>
                        </a:rPr>
                        <a:t>Различай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6e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сл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я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ы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азведённый на масле, работающий на масле (печенье, двигатель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л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я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стоящий из соли (столб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етр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я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й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двигатель, оспа) связанный с движением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6ef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асл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е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ы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мазанный маслом, пропитанный маслом (блин, руки, каша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л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ё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ы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держащий соль (каша)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етр</a:t>
                      </a:r>
                      <a:r>
                        <a:rPr b="0" lang="ru-RU" sz="2800" spc="-1" strike="noStrike" u="sng">
                          <a:solidFill>
                            <a:srgbClr val="f11b05"/>
                          </a:solidFill>
                          <a:uFillTx/>
                          <a:latin typeface="Arial"/>
                        </a:rPr>
                        <a:t>ен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ы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День, человек ) связанный с ветром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6efe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203640" y="2924280"/>
            <a:ext cx="1368360" cy="865080"/>
          </a:xfrm>
          <a:prstGeom prst="rect">
            <a:avLst/>
          </a:prstGeom>
          <a:solidFill>
            <a:srgbClr val="f6efe2"/>
          </a:solidFill>
          <a:ln w="9360">
            <a:solidFill>
              <a:srgbClr val="2f1311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132000" y="3141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11b05"/>
                </a:solidFill>
                <a:uFillTx/>
                <a:latin typeface="Arial"/>
              </a:rPr>
              <a:t>Запомн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6084720" y="2421000"/>
            <a:ext cx="1295640" cy="936720"/>
          </a:xfrm>
          <a:prstGeom prst="rect">
            <a:avLst/>
          </a:prstGeom>
          <a:solidFill>
            <a:srgbClr val="8dc9a0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84360" y="2492280"/>
            <a:ext cx="1366560" cy="1008000"/>
          </a:xfrm>
          <a:prstGeom prst="rect">
            <a:avLst/>
          </a:prstGeom>
          <a:solidFill>
            <a:srgbClr val="f11b05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700360" y="476280"/>
            <a:ext cx="1150920" cy="865080"/>
          </a:xfrm>
          <a:prstGeom prst="rect">
            <a:avLst/>
          </a:prstGeom>
          <a:solidFill>
            <a:srgbClr val="46e259"/>
          </a:solidFill>
          <a:ln w="9360">
            <a:solidFill>
              <a:srgbClr val="3028d2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140360" y="404640"/>
            <a:ext cx="1152360" cy="936720"/>
          </a:xfrm>
          <a:prstGeom prst="rect">
            <a:avLst/>
          </a:prstGeom>
          <a:solidFill>
            <a:srgbClr val="38d1f0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763640" y="4869000"/>
            <a:ext cx="1295640" cy="122400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003640" y="4941720"/>
            <a:ext cx="1224000" cy="1008360"/>
          </a:xfrm>
          <a:prstGeom prst="rect">
            <a:avLst/>
          </a:prstGeom>
          <a:solidFill>
            <a:srgbClr val="f11b05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5292720" y="1413000"/>
            <a:ext cx="1224000" cy="79200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6012000" y="3573360"/>
            <a:ext cx="1224000" cy="1008000"/>
          </a:xfrm>
          <a:prstGeom prst="rect">
            <a:avLst/>
          </a:prstGeom>
          <a:solidFill>
            <a:srgbClr val="f95de6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539640" y="3716280"/>
            <a:ext cx="1295640" cy="1081080"/>
          </a:xfrm>
          <a:prstGeom prst="rect">
            <a:avLst/>
          </a:prstGeom>
          <a:solidFill>
            <a:srgbClr val="73d6e3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1116000" y="1197000"/>
            <a:ext cx="1368360" cy="1008000"/>
          </a:xfrm>
          <a:prstGeom prst="rect">
            <a:avLst/>
          </a:prstGeom>
          <a:solidFill>
            <a:srgbClr val="f95de6"/>
          </a:solidFill>
          <a:ln w="9360">
            <a:solidFill>
              <a:srgbClr val="2f1311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2627280" y="6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зелён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140360" y="62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042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авли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6400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прян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 flipV="1" rot="10800000">
            <a:off x="539640" y="285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юле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 flipV="1" rot="10714200">
            <a:off x="6018120" y="266436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агрян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400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фаза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940360" y="3854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умян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3348000" y="5013360"/>
            <a:ext cx="1224000" cy="1152360"/>
          </a:xfrm>
          <a:prstGeom prst="rect">
            <a:avLst/>
          </a:prstGeom>
          <a:solidFill>
            <a:srgbClr val="46e259"/>
          </a:solidFill>
          <a:ln w="9360">
            <a:solidFill>
              <a:srgbClr val="2f1311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763640" y="5229360"/>
            <a:ext cx="1295640" cy="368280"/>
          </a:xfrm>
          <a:prstGeom prst="rect">
            <a:avLst/>
          </a:prstGeom>
          <a:solidFill>
            <a:srgbClr val="f0b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ара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5148360" y="5157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юны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48000" y="530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ви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>
            <a:off x="3203640" y="1413000"/>
            <a:ext cx="504720" cy="1368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 flipH="1">
            <a:off x="4067280" y="1341360"/>
            <a:ext cx="576000" cy="1440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2411280" y="2133720"/>
            <a:ext cx="792360" cy="7905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572000" y="2205000"/>
            <a:ext cx="720720" cy="719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2050920" y="3068640"/>
            <a:ext cx="115272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Line 31"/>
          <p:cNvSpPr/>
          <p:nvPr/>
        </p:nvSpPr>
        <p:spPr>
          <a:xfrm flipH="1">
            <a:off x="4572000" y="2924280"/>
            <a:ext cx="1512720" cy="4334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 flipH="1">
            <a:off x="1763640" y="3500280"/>
            <a:ext cx="1440000" cy="505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4643280" y="3645000"/>
            <a:ext cx="136872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2410920" y="3789360"/>
            <a:ext cx="792360" cy="1008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Line 35"/>
          <p:cNvSpPr/>
          <p:nvPr/>
        </p:nvSpPr>
        <p:spPr>
          <a:xfrm>
            <a:off x="3924360" y="3860640"/>
            <a:ext cx="0" cy="936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4572000" y="3860640"/>
            <a:ext cx="720720" cy="792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b95"/>
                </a:solidFill>
                <a:latin typeface="Arial"/>
              </a:rPr>
              <a:t>Выпишите  прилагательные, у которых в суффиксе две н, а потом прилагательные с одним н в суффиксе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82088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Революцио...ый, орли…ый, восторже…ый, овся…ый, шерстя…ой, обеде…ый, оловя…ый, кожа…ый, звери…ый,  торфя…ой, эскурсио…ый, письме…ый, стекля…ый, авиацио…ый, песча…ый, костя…ой, обыкнове…ый, ледя…ой, песе…ый, соловьи…ый, берестя…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6800"/>
            <a:ext cx="66294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82b95"/>
                </a:solidFill>
                <a:latin typeface="Arial"/>
              </a:rPr>
              <a:t>Проверьт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3394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Н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волюци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о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рж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ов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(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ск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(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ск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курси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о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(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ск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ици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о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кнов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с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33560" y="1142640"/>
            <a:ext cx="3733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л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р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ф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овь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ст</a:t>
            </a:r>
            <a:r>
              <a:rPr b="1" lang="ru-RU" sz="24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Вставь и объясни написание пропущенных букв.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203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Стоит ветре…ая погода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Ледя…ой ветер проносится над головой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Как за каме…ой стеной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Тот исти…ый друг, честен и прям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Я почувствовал пря…ый запах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Тает в небе журавли…ый крик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1311"/>
                </a:solidFill>
                <a:latin typeface="Arial"/>
              </a:rPr>
              <a:t>Роняет лес багря..ый свой убор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оверь себ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угу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решёт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етр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е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й де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багр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й зака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гус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е лап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ши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е отделе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болез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е чувств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дикови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е  происшеств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тари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е час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ю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е лиц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лед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го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холсти</a:t>
            </a: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й меш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етуш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ые бо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жизн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дра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еличеств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колон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лебед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и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песн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жест</a:t>
            </a:r>
            <a:r>
              <a:rPr b="1" lang="ru-RU" sz="2000" spc="-1" strike="noStrike">
                <a:solidFill>
                  <a:srgbClr val="f7e13f"/>
                </a:solidFill>
                <a:latin typeface="Arial"/>
              </a:rPr>
              <a:t>ян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я короб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5-01-03T11:23:2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